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BCA-DE30-47F8-8483-2B53CABF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5C0-1C97-410D-B9AD-EB805CAC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B5B-D838-4E29-9B39-9FD0F648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AF1-14C1-467B-90F6-E275EA3A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200-AAA7-4F50-AB6E-3759DDBE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974-C9C3-4E06-9BD8-7E12B786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7A7-0A6E-4EFC-A0A9-67832458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D9A-8EE2-4D63-902D-00DA3E25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6FD-3182-46AD-896D-9173FEF8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03E-1F18-48F7-A3AF-2835E62E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E94-33AF-4302-8782-94D09C0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4D5-7458-4345-B86F-E1C7FB4A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C245-BDBA-4FF5-A5A1-C4FB96A6830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Managing Resourc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increasing pressure on the resources of the world because of the rapid population growth and economic development has meant that management of resources has become imperat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in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nite nature of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ossil fuel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has led to the development of alternative energy producing method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though not strictly a method of renewable energy, nuclear power was seen during the 1960's and 1970's as the perfect answer to the probl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cidents, such as Chernobyl, and the danger of radioactive leaks have meant that now other energy forms are being sough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ost commonly used one is hydroelectric power, whilst wind power, solar power and geothermal energy have all been successfully harnessed on a smaller sca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Can Be 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ervation of resour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vital part of manag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cludes natural resources such as areas of scenic beauty as well as the efficient use of things like minerals and for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ource substit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where easily re-usable materials are used rather than the original materia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es under the banner of conserv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Can Be 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ycl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vitally important part of the management of natural re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lution Contr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ve been introduced to try to reduce emissions from the use of fossil fuels and other natural re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been heavily polluting other natural resources such as the atmosphere and the oceans, causing problems from a local to global sc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3:17:37Z</dcterms:created>
  <dc:creator>Dell_02</dc:creator>
  <dc:description/>
  <dc:language>en-US</dc:language>
  <cp:lastModifiedBy>Dell_02</cp:lastModifiedBy>
  <dcterms:modified xsi:type="dcterms:W3CDTF">2011-01-28T03:24:48Z</dcterms:modified>
  <cp:revision>1</cp:revision>
  <dc:subject/>
  <dc:title>Managing Resources</dc:title>
</cp:coreProperties>
</file>